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BF41-57B7-45A2-BF24-4EFBD5D3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427-CC95-4F30-BE60-0A016558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2DD8-0049-4A67-AA0D-7E40AE53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627-BA64-4FBF-BBEF-C63EF795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64E1-EA92-42C7-8057-1FB1F008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D49-ABAA-4B82-89EF-7A545D6F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25E-8D4C-486E-814A-BE1373C4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B5C-1CCB-4E93-BF01-0B19C9B0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846-A74B-4444-B7FC-C723ECB2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23E8-FFF4-438F-B788-9150A836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071-B03F-4791-A351-3AB1BACB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7B3-6265-4B38-A6D3-04EB033A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C20C-41BC-4133-A2B8-1C90086C153A}" type="slidenum">
              <a:rPr b="0" lang="sl-SI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CHAIR OF ORTHOPAEDICS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www.mf.uni-lj.si/kort/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ortoped@mf.uni-lj.si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blaz.mavcic@kclj.s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ternal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one positio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4" descr="kolk rotaciji"/>
          <p:cNvPicPr/>
          <p:nvPr/>
        </p:nvPicPr>
        <p:blipFill>
          <a:blip r:embed="rId1"/>
          <a:stretch/>
        </p:blipFill>
        <p:spPr>
          <a:xfrm>
            <a:off x="6184800" y="260280"/>
            <a:ext cx="2492640" cy="3773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kolk rotaciji flex"/>
          <p:cNvPicPr/>
          <p:nvPr/>
        </p:nvPicPr>
        <p:blipFill>
          <a:blip r:embed="rId2"/>
          <a:stretch/>
        </p:blipFill>
        <p:spPr>
          <a:xfrm>
            <a:off x="3708360" y="3736800"/>
            <a:ext cx="34560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 </a:t>
            </a: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FABER</a:t>
            </a: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:  DDg hip/SI joi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ying supine the heel is put on the opposite kn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ip pain signifies intraarticular pat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acroiliac pain signifies sacroiliac joint pat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4" descr="1011_f2"/>
          <p:cNvPicPr/>
          <p:nvPr/>
        </p:nvPicPr>
        <p:blipFill>
          <a:blip r:embed="rId1"/>
          <a:stretch/>
        </p:blipFill>
        <p:spPr>
          <a:xfrm>
            <a:off x="5651640" y="2060640"/>
            <a:ext cx="26938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eg length measur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tion of anterior superior spines or iliac crests; evaluation of pelvic ti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easurements of the absolute LLD (from ASIS to medial malleolu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easurements of the relative LLD (from umbilicus to medial malleolu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unctional LLD in 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ographic scanome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Leg length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discrepanc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bsolute leng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lative leng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unctional length: leveling the pelvic tilt with blocks under the short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MEASUR_LEG_LENGTH"/>
          <p:cNvPicPr/>
          <p:nvPr/>
        </p:nvPicPr>
        <p:blipFill>
          <a:blip r:embed="rId1"/>
          <a:stretch/>
        </p:blipFill>
        <p:spPr>
          <a:xfrm>
            <a:off x="4859280" y="189000"/>
            <a:ext cx="2138400" cy="298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APARENTLY_LONG_LEG"/>
          <p:cNvPicPr/>
          <p:nvPr/>
        </p:nvPicPr>
        <p:blipFill>
          <a:blip r:embed="rId2"/>
          <a:stretch/>
        </p:blipFill>
        <p:spPr>
          <a:xfrm>
            <a:off x="6056280" y="3068640"/>
            <a:ext cx="2838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000"/>
            </a:br>
            <a:br>
              <a:rPr sz="4000"/>
            </a:b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THE KNE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907_f1"/>
          <p:cNvPicPr/>
          <p:nvPr/>
        </p:nvPicPr>
        <p:blipFill>
          <a:blip r:embed="rId1"/>
          <a:stretch/>
        </p:blipFill>
        <p:spPr>
          <a:xfrm>
            <a:off x="1220760" y="0"/>
            <a:ext cx="66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kne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arge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irectly under the sk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rone to inju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nisci enable distensibility and at the same time sufficient st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igaments are the key stabiliz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alpation of typical knee poi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dductor tube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tellar ap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uberositas tibia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Fibular h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ateral collateral lig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dial and lateral join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ertion of pes anserin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erdy tubercle (insertion of tractus iliotibial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kn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curvatum (= hyperextens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inimal rotation in 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 contra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rue contracture (pass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ability to extend (act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romflexion1-1"/>
          <p:cNvPicPr/>
          <p:nvPr/>
        </p:nvPicPr>
        <p:blipFill>
          <a:blip r:embed="rId1"/>
          <a:stretch/>
        </p:blipFill>
        <p:spPr>
          <a:xfrm>
            <a:off x="5219640" y="189000"/>
            <a:ext cx="2766960" cy="198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romflexion1-2"/>
          <p:cNvPicPr/>
          <p:nvPr/>
        </p:nvPicPr>
        <p:blipFill>
          <a:blip r:embed="rId2"/>
          <a:stretch/>
        </p:blipFill>
        <p:spPr>
          <a:xfrm>
            <a:off x="4932360" y="2060640"/>
            <a:ext cx="3352680" cy="24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romflexion1-3"/>
          <p:cNvPicPr/>
          <p:nvPr/>
        </p:nvPicPr>
        <p:blipFill>
          <a:blip r:embed="rId3"/>
          <a:stretch/>
        </p:blipFill>
        <p:spPr>
          <a:xfrm>
            <a:off x="5292720" y="4437000"/>
            <a:ext cx="27669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Circumferenc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Circumference over patella (effus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5 cm above patella (recess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10 cm above patella (muscles – atroph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THE HIP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Effusion in the kn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Balottement”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of pate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tient lying su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he knee in the extended 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eft hand squeezes the suprapatellar reces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With right hand the patella is pressed against the “floor” (femoral trochle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tella is floating and bumping over fem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exam1"/>
          <p:cNvPicPr/>
          <p:nvPr/>
        </p:nvPicPr>
        <p:blipFill>
          <a:blip r:embed="rId1"/>
          <a:stretch/>
        </p:blipFill>
        <p:spPr>
          <a:xfrm>
            <a:off x="5940360" y="2060640"/>
            <a:ext cx="3273480" cy="4403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Knee ax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62024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Biomechanical axis in stance:  femoral head center, knee center, ankl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iscrepancy: valgus, va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Women have larger valgus (wider pelv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Children first have varus, then valgus, eventually norm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arus, valgus osteo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Laxity in the frontal pla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210440" cy="23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axity of the knee in extension (indicating lesion of the anterior cruciate ligament) or only in flexion 20-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Laxity at valgus torque (X):  laxity of the medial collateral ligament (and the anterior cruciate ligam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Laxity at varus torque (O):  laxity of the lateral collateral ligament (and the anterior cruciate ligam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907_f4"/>
          <p:cNvPicPr/>
          <p:nvPr/>
        </p:nvPicPr>
        <p:blipFill>
          <a:blip r:embed="rId1"/>
          <a:stretch/>
        </p:blipFill>
        <p:spPr>
          <a:xfrm>
            <a:off x="3733920" y="3703680"/>
            <a:ext cx="541008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 instability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ior cruciate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Anterior drawer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ying sup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9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Displacement of tibia </a:t>
            </a:r>
            <a:br>
              <a:rPr sz="2400"/>
            </a:b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nterio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mparison right/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apinstabanteriordrawer1-1"/>
          <p:cNvPicPr/>
          <p:nvPr/>
        </p:nvPicPr>
        <p:blipFill>
          <a:blip r:embed="rId1"/>
          <a:stretch/>
        </p:blipFill>
        <p:spPr>
          <a:xfrm>
            <a:off x="4716360" y="2997360"/>
            <a:ext cx="40388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 instability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ior cruciate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Lachman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ying sup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20-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eft hand fixates fem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Right hand draws tibia anterio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mparison right/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apinstablachman1-1"/>
          <p:cNvPicPr/>
          <p:nvPr/>
        </p:nvPicPr>
        <p:blipFill>
          <a:blip r:embed="rId1"/>
          <a:stretch/>
        </p:blipFill>
        <p:spPr>
          <a:xfrm>
            <a:off x="5292720" y="1916280"/>
            <a:ext cx="331164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907_f3"/>
          <p:cNvPicPr/>
          <p:nvPr/>
        </p:nvPicPr>
        <p:blipFill>
          <a:blip r:embed="rId2"/>
          <a:stretch/>
        </p:blipFill>
        <p:spPr>
          <a:xfrm>
            <a:off x="5219640" y="4292640"/>
            <a:ext cx="346716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apinstabposteriordrawer2-1"/>
          <p:cNvPicPr/>
          <p:nvPr/>
        </p:nvPicPr>
        <p:blipFill>
          <a:blip r:embed="rId1"/>
          <a:stretch/>
        </p:blipFill>
        <p:spPr>
          <a:xfrm>
            <a:off x="5148360" y="1589040"/>
            <a:ext cx="3527280" cy="2525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 instability: 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posterior cruciate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8592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Posterior drawer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ying sup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8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ranslation of tibia posterio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imilar to anterior drawer test: from reposition to sublux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mparison right/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ateral inspection (conto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apinstabposteriordrawer2-2"/>
          <p:cNvPicPr/>
          <p:nvPr/>
        </p:nvPicPr>
        <p:blipFill>
          <a:blip r:embed="rId2"/>
          <a:stretch/>
        </p:blipFill>
        <p:spPr>
          <a:xfrm>
            <a:off x="5148360" y="3821040"/>
            <a:ext cx="35272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Manipulation in flexion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meniscu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McMurray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ingers on the joint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/extension + ro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alpable or visible clun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ainful clun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6340_2"/>
          <p:cNvPicPr/>
          <p:nvPr/>
        </p:nvPicPr>
        <p:blipFill>
          <a:blip r:embed="rId1"/>
          <a:stretch/>
        </p:blipFill>
        <p:spPr>
          <a:xfrm>
            <a:off x="6443640" y="260280"/>
            <a:ext cx="2244600" cy="3413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exam50"/>
          <p:cNvPicPr/>
          <p:nvPr/>
        </p:nvPicPr>
        <p:blipFill>
          <a:blip r:embed="rId2"/>
          <a:stretch/>
        </p:blipFill>
        <p:spPr>
          <a:xfrm>
            <a:off x="4103640" y="4199040"/>
            <a:ext cx="5040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atel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he largest sesamoid b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mproves efficacy of knee ext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nterior knee pain problems, patellar ins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907_f2"/>
          <p:cNvPicPr/>
          <p:nvPr/>
        </p:nvPicPr>
        <p:blipFill>
          <a:blip r:embed="rId1"/>
          <a:srcRect l="0" t="0" r="2693" b="0"/>
          <a:stretch/>
        </p:blipFill>
        <p:spPr>
          <a:xfrm>
            <a:off x="5457960" y="2176560"/>
            <a:ext cx="2354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Chondropathia patella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Zohler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Lying su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Knee exten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The patella is pressed downw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Quadriceps con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Comparison right/le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Pa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ower tes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Knee extension power te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Knee flexion power te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Palpation of typical points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in the hip reg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reater trochanter (top, posterior bor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ciatic nerve out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guinal ligament and pulse of the femoral art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esser trocha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pina iliaca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THE SHOULD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igure 1A"/>
          <p:cNvPicPr/>
          <p:nvPr/>
        </p:nvPicPr>
        <p:blipFill>
          <a:blip r:embed="rId1"/>
          <a:srcRect l="0" t="0" r="2742" b="0"/>
          <a:stretch/>
        </p:blipFill>
        <p:spPr>
          <a:xfrm>
            <a:off x="0" y="549360"/>
            <a:ext cx="889488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670120" y="-14054040"/>
          <a:ext cx="208080" cy="349311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641160">
                <a:tc>
                  <a:txBody>
                    <a:bodyPr tIns="46080" bIns="4608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aeae"/>
                    </a:solidFill>
                  </a:tcPr>
                </a:tc>
              </a:tr>
              <a:tr h="34580520">
                <a:tc>
                  <a:txBody>
                    <a:bodyPr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13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3" descr="{short description of image}"/>
          <p:cNvPicPr/>
          <p:nvPr/>
        </p:nvPicPr>
        <p:blipFill>
          <a:blip r:embed="rId1"/>
          <a:stretch/>
        </p:blipFill>
        <p:spPr>
          <a:xfrm>
            <a:off x="2824200" y="-14007960"/>
            <a:ext cx="38160" cy="37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Figure 1B"/>
          <p:cNvPicPr/>
          <p:nvPr/>
        </p:nvPicPr>
        <p:blipFill>
          <a:blip r:embed="rId2"/>
          <a:stretch/>
        </p:blipFill>
        <p:spPr>
          <a:xfrm>
            <a:off x="2760840" y="-13366800"/>
            <a:ext cx="3714480" cy="220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Figure 1B"/>
          <p:cNvPicPr/>
          <p:nvPr/>
        </p:nvPicPr>
        <p:blipFill>
          <a:blip r:embed="rId3"/>
          <a:stretch/>
        </p:blipFill>
        <p:spPr>
          <a:xfrm>
            <a:off x="826920" y="2060640"/>
            <a:ext cx="7274160" cy="43084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7b9cb5"/>
                </a:solidFill>
                <a:latin typeface="Tahoma"/>
              </a:rPr>
              <a:t>Rotatory cu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lenohumeral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cromioclavikular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kapulothoracic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ternoclavicular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igament between clavicula and scap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capulohumeral rhythm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pection of m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bitual lux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capula alata” when pressing against the wall (palsy n. thoracicus longus or m. serrati a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p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trophy of deltoid, supraspina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uxation (anterior, posteri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cromioclavikular syndesmolysis (“piano key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rama gibljivost1"/>
          <p:cNvPicPr/>
          <p:nvPr/>
        </p:nvPicPr>
        <p:blipFill>
          <a:blip r:embed="rId1"/>
          <a:stretch/>
        </p:blipFill>
        <p:spPr>
          <a:xfrm>
            <a:off x="0" y="2703600"/>
            <a:ext cx="5638680" cy="4154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562360" y="2282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ubakromial 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cromioclavicular j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raco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33760" y="3048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OM (act./pas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b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d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nte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ternal rotation (in adduction or abduction 90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s of subacromial impingment </a:t>
            </a:r>
            <a:r>
              <a:rPr b="0" lang="sl-SI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</a:t>
            </a: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 pai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4316400" cy="32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Neer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tient sitting, doctor sta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rm between abduction and ante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octor elevates a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in at 9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te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Figure 5"/>
          <p:cNvPicPr/>
          <p:nvPr/>
        </p:nvPicPr>
        <p:blipFill>
          <a:blip r:embed="rId1"/>
          <a:srcRect l="0" t="0" r="6756" b="0"/>
          <a:stretch/>
        </p:blipFill>
        <p:spPr>
          <a:xfrm>
            <a:off x="4351320" y="2276640"/>
            <a:ext cx="44686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560" y="1980720"/>
            <a:ext cx="82818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wkins modification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(testing impingment of supraspinatus under CA liga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Humerus ante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Humerus in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Figure 6"/>
          <p:cNvPicPr/>
          <p:nvPr/>
        </p:nvPicPr>
        <p:blipFill>
          <a:blip r:embed="rId1"/>
          <a:srcRect l="0" t="0" r="3580" b="0"/>
          <a:stretch/>
        </p:blipFill>
        <p:spPr>
          <a:xfrm>
            <a:off x="2124000" y="3573360"/>
            <a:ext cx="4824360" cy="30020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s of subacromial impingment </a:t>
            </a:r>
            <a:r>
              <a:rPr b="0" lang="sl-SI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</a:t>
            </a: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 pa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ower of supraspinat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houlder abduction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nteflexion 3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aximal internal 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tient resists downward pressure on the elbow, exerted by the doc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AC (acromioclavicular) joi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spection (piano key at syndesmo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Cross-arm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ographic criteria (Rockwood classificait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Figure 7"/>
          <p:cNvPicPr/>
          <p:nvPr/>
        </p:nvPicPr>
        <p:blipFill>
          <a:blip r:embed="rId1"/>
          <a:stretch/>
        </p:blipFill>
        <p:spPr>
          <a:xfrm>
            <a:off x="5207040" y="2552760"/>
            <a:ext cx="29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672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nge of motion (RO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abd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add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Rotation measurements are done supine (in hip flexion) or prone (in hip extension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kolk rotaciji flex"/>
          <p:cNvPicPr/>
          <p:nvPr/>
        </p:nvPicPr>
        <p:blipFill>
          <a:blip r:embed="rId1"/>
          <a:stretch/>
        </p:blipFill>
        <p:spPr>
          <a:xfrm>
            <a:off x="5638680" y="4038480"/>
            <a:ext cx="3124440" cy="2625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kolk rotaciji"/>
          <p:cNvPicPr/>
          <p:nvPr/>
        </p:nvPicPr>
        <p:blipFill>
          <a:blip r:embed="rId2"/>
          <a:stretch/>
        </p:blipFill>
        <p:spPr>
          <a:xfrm>
            <a:off x="5867280" y="0"/>
            <a:ext cx="26640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ing biceps brach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512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in over sul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Yergason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  patient flexes and supinates elb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octor rotates lower arm inwards and resists sup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in in the sul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5" descr="Figure 9"/>
          <p:cNvPicPr/>
          <p:nvPr/>
        </p:nvPicPr>
        <p:blipFill>
          <a:blip r:embed="rId1"/>
          <a:stretch/>
        </p:blipFill>
        <p:spPr>
          <a:xfrm>
            <a:off x="5108400" y="2205000"/>
            <a:ext cx="40356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Speed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lbow flexion 20-3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, lower arm in supination, 6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teflexion, the doctor resists further shoulder flexion and palpates biceps in sul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468360" y="4017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ing biceps brach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ng shoulder instability: </a:t>
            </a:r>
            <a:br>
              <a:rPr sz="4000"/>
            </a:br>
            <a:r>
              <a:rPr b="0" lang="sl-SI" sz="4000" spc="-1" strike="noStrike">
                <a:solidFill>
                  <a:srgbClr val="ffdb41"/>
                </a:solidFill>
                <a:latin typeface="Tahoma"/>
              </a:rPr>
              <a:t>anterior instabil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Apprehension Te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”</a:t>
            </a:r>
            <a:br>
              <a:rPr sz="2800"/>
            </a:b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houlder put into 9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bductio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xaminer put stress on proximal humerus into forward direction; simultaneously with external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in, forward translation of the humeral head – </a:t>
            </a:r>
            <a:r>
              <a:rPr b="0" lang="sl-SI" sz="2800" spc="-1" strike="noStrike">
                <a:solidFill>
                  <a:srgbClr val="ffff00"/>
                </a:solidFill>
                <a:latin typeface="Tahoma"/>
              </a:rPr>
              <a:t>sign of instab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6" descr="Figure 8"/>
          <p:cNvPicPr/>
          <p:nvPr/>
        </p:nvPicPr>
        <p:blipFill>
          <a:blip r:embed="rId1"/>
          <a:srcRect l="0" t="0" r="2958" b="0"/>
          <a:stretch/>
        </p:blipFill>
        <p:spPr>
          <a:xfrm>
            <a:off x="4762440" y="2565360"/>
            <a:ext cx="36972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ng shoulder instability: </a:t>
            </a:r>
            <a:br>
              <a:rPr sz="4000"/>
            </a:br>
            <a:r>
              <a:rPr b="0" lang="sl-SI" sz="4000" spc="-1" strike="noStrike">
                <a:solidFill>
                  <a:srgbClr val="ffdb41"/>
                </a:solidFill>
                <a:latin typeface="Tahoma"/>
              </a:rPr>
              <a:t>posterior instabil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houlder put into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abduction, elbow flexed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Examiner applies pressure on proximal humerus into posterior dire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ng shoulder instability: </a:t>
            </a:r>
            <a:br>
              <a:rPr sz="4000"/>
            </a:br>
            <a:r>
              <a:rPr b="0" lang="sl-SI" sz="4000" spc="-1" strike="noStrike">
                <a:solidFill>
                  <a:srgbClr val="ffdb41"/>
                </a:solidFill>
                <a:latin typeface="Tahoma"/>
              </a:rPr>
              <a:t>inferior instabil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53640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„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Sulcus sign“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(inferior glenohumeral instability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When force applied into downward direction – gap laterally below acromion can be seen (can be normal in young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Figure 10"/>
          <p:cNvPicPr/>
          <p:nvPr/>
        </p:nvPicPr>
        <p:blipFill>
          <a:blip r:embed="rId1"/>
          <a:srcRect l="0" t="0" r="3858" b="0"/>
          <a:stretch/>
        </p:blipFill>
        <p:spPr>
          <a:xfrm>
            <a:off x="6012000" y="2133720"/>
            <a:ext cx="28080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 tes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197000"/>
          <a:ext cx="8229600" cy="5059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t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ma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D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umerus anteflex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acrom. impi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wk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fl. 90, internal ro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praspin. impi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op-arm test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ll abduction - Lower the arm to the sid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tator cuff pa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orizont. ad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flexion 90, ad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 joint pa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prehension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ternal rotation, abd. 90, </a:t>
                      </a: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rw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rior inst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lcus sig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wnward direction str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erior inst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ed 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oulder flexion, external rotation, full elbow extension</a:t>
                      </a:r>
                      <a:r>
                        <a:rPr b="0" lang="sl-SI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rearm supination; manual re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ceps pa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:  Differential diagno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Rotator cuff path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stability (anterior, posterior, multidirec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Biceps tendinitis, inst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Osteonecr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Glenohumeral joint osteo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alcific shoulder tendo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uprascapular nerve impin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Brachial plexus pal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horacic outlet syndr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ervical radiculopaty – nerve root entra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 contracture: the Thomas tes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of the opposite hip obliterates lumbar lordosis and manifests the </a:t>
            </a: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flexion contracture, compensated by extensive lumbar lord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dd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ction contracture:  functionally SHORTER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bd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ction contracture:  functionally LONGER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 hip osteoarthritis most often flexion contracture, adduction contracture and external rotational contra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ying su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cient “straightened” (pelvis must lie perpendicularly to the examination tab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hree exami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ixation of pelv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2109_f7"/>
          <p:cNvPicPr/>
          <p:nvPr/>
        </p:nvPicPr>
        <p:blipFill>
          <a:blip r:embed="rId1"/>
          <a:stretch/>
        </p:blipFill>
        <p:spPr>
          <a:xfrm>
            <a:off x="6300720" y="3933720"/>
            <a:ext cx="25401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The Thomas te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o unmask flexion contra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4" descr="thomas1"/>
          <p:cNvPicPr/>
          <p:nvPr/>
        </p:nvPicPr>
        <p:blipFill>
          <a:blip r:embed="rId1"/>
          <a:stretch/>
        </p:blipFill>
        <p:spPr>
          <a:xfrm>
            <a:off x="826920" y="4221000"/>
            <a:ext cx="3176640" cy="225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homastest"/>
          <p:cNvPicPr/>
          <p:nvPr/>
        </p:nvPicPr>
        <p:blipFill>
          <a:blip r:embed="rId2"/>
          <a:stretch/>
        </p:blipFill>
        <p:spPr>
          <a:xfrm>
            <a:off x="5148360" y="1557360"/>
            <a:ext cx="32670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b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d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6360" y="2852640"/>
            <a:ext cx="3394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c0600"/>
                </a:solidFill>
                <a:latin typeface="Tahoma"/>
              </a:rPr>
              <a:t>WRONG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4" descr="adductionofhip"/>
          <p:cNvPicPr/>
          <p:nvPr/>
        </p:nvPicPr>
        <p:blipFill>
          <a:blip r:embed="rId1"/>
          <a:stretch/>
        </p:blipFill>
        <p:spPr>
          <a:xfrm>
            <a:off x="5076720" y="3719520"/>
            <a:ext cx="4067280" cy="275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Abduction Of Hip"/>
          <p:cNvPicPr/>
          <p:nvPr/>
        </p:nvPicPr>
        <p:blipFill>
          <a:blip r:embed="rId2"/>
          <a:stretch/>
        </p:blipFill>
        <p:spPr>
          <a:xfrm>
            <a:off x="5073480" y="907920"/>
            <a:ext cx="40705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ographic evaluation:  varus, valgus,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nte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valgus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varus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cannot be seen clin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nteversion of the femoral neck can be evaluated clin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anteverzija"/>
          <p:cNvPicPr/>
          <p:nvPr/>
        </p:nvPicPr>
        <p:blipFill>
          <a:blip r:embed="rId1"/>
          <a:stretch/>
        </p:blipFill>
        <p:spPr>
          <a:xfrm>
            <a:off x="4419720" y="228600"/>
            <a:ext cx="4724280" cy="3279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varusvalgus"/>
          <p:cNvPicPr/>
          <p:nvPr/>
        </p:nvPicPr>
        <p:blipFill>
          <a:blip r:embed="rId2"/>
          <a:stretch/>
        </p:blipFill>
        <p:spPr>
          <a:xfrm>
            <a:off x="4427640" y="3435480"/>
            <a:ext cx="472428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7T06:41:22Z</dcterms:created>
  <dc:creator>Uporabnik</dc:creator>
  <dc:description/>
  <dc:language>en-US</dc:language>
  <cp:lastModifiedBy>ortop39</cp:lastModifiedBy>
  <dcterms:modified xsi:type="dcterms:W3CDTF">2020-12-10T09:24:50Z</dcterms:modified>
  <cp:revision>109</cp:revision>
  <dc:subject/>
  <dc:title>VAJE IZ ORTOPEDIJE</dc:title>
</cp:coreProperties>
</file>